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26F-F88D-4BBD-B479-EC63C3D9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543-6FEA-487F-B803-A9CC2E9D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5D9-8239-4BA5-AA34-4446BCBF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2E8-CFEF-4F3C-827C-09FB79DE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F08-E262-4711-85CA-5EB36797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2AD-197A-4C09-A8DE-C675969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0B8-5A44-4ECD-A299-33D93C6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2D3-F1AA-486B-B78F-2AB8B646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423-465E-43EF-82A2-287462AF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D42-300A-4556-8149-14E4D766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1D9-173D-4B9B-92E2-67F7FAF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FEF-7F56-4835-AE07-F08750D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A70-8142-4BB1-9B0F-3681C31B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what factors does friction dep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0592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424400" cy="449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80240" y="1143000"/>
            <a:ext cx="2363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2286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measure the force of friction between the block and the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Friction &lt; 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038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981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n object gets moving, friction get’s 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nts Table of Coefficients of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-228600"/>
            <a:ext cx="68580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19320"/>
            <a:ext cx="80769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force of friction between a waxed ski sliding on snow when an 800 N skier is skiing horizont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a skier half as heavy where on the same skis and s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: Downhill without friction (imagina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05740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were perfectly frictionless snow find the acceleration of an 800 N skier is ski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3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3809880"/>
            <a:ext cx="2971800" cy="2057400"/>
            <a:chOff x="685800" y="3809880"/>
            <a:chExt cx="2971800" cy="2057400"/>
          </a:xfrm>
        </p:grpSpPr>
        <p:sp>
          <p:nvSpPr>
            <p:cNvPr id="57" name=""/>
            <p:cNvSpPr/>
            <p:nvPr/>
          </p:nvSpPr>
          <p:spPr>
            <a:xfrm flipV="1">
              <a:off x="685800" y="419076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5410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600" y="4191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495680"/>
              <a:ext cx="4572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4724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676520" y="3809880"/>
              <a:ext cx="3808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63960" y="3276720"/>
            <a:ext cx="4646520" cy="2209680"/>
            <a:chOff x="3963960" y="3276720"/>
            <a:chExt cx="4646520" cy="2209680"/>
          </a:xfrm>
        </p:grpSpPr>
        <p:sp>
          <p:nvSpPr>
            <p:cNvPr id="64" name=""/>
            <p:cNvSpPr/>
            <p:nvPr/>
          </p:nvSpPr>
          <p:spPr>
            <a:xfrm>
              <a:off x="464832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266720" y="3429000"/>
              <a:ext cx="3812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419720"/>
              <a:ext cx="457200" cy="76176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724280" y="5257800"/>
              <a:ext cx="457200" cy="22860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3960" y="4724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920" y="449568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y =800 cos30 = 692N 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32767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-F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95288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x =800 sin30 = 40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 =800N = mg ,  then m = 8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5324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Fx = m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= 80a   so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 = 5 m/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: Downhill with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force of friction between a waxed ski sliding on snow when an 800 N skier is skiing on a 3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ine. Then find the skiers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5800" y="3809880"/>
            <a:ext cx="2971800" cy="2057400"/>
            <a:chOff x="685800" y="3809880"/>
            <a:chExt cx="2971800" cy="2057400"/>
          </a:xfrm>
        </p:grpSpPr>
        <p:sp>
          <p:nvSpPr>
            <p:cNvPr id="77" name=""/>
            <p:cNvSpPr/>
            <p:nvPr/>
          </p:nvSpPr>
          <p:spPr>
            <a:xfrm flipV="1">
              <a:off x="685800" y="419076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5410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4191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28800" y="4495680"/>
              <a:ext cx="4572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7400" y="4724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1676520" y="3809880"/>
              <a:ext cx="3808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V="1">
            <a:off x="2057400" y="44197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403812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10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720" y="441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x =800 sin30 = 40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Fx – f =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63960" y="3276720"/>
            <a:ext cx="4646520" cy="2209680"/>
            <a:chOff x="3963960" y="3276720"/>
            <a:chExt cx="4646520" cy="2209680"/>
          </a:xfrm>
        </p:grpSpPr>
        <p:sp>
          <p:nvSpPr>
            <p:cNvPr id="90" name=""/>
            <p:cNvSpPr/>
            <p:nvPr/>
          </p:nvSpPr>
          <p:spPr>
            <a:xfrm>
              <a:off x="464832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266720" y="3429000"/>
              <a:ext cx="3812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4419720"/>
              <a:ext cx="457200" cy="76176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724280" y="5257800"/>
              <a:ext cx="457200" cy="22860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3960" y="4724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449568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y =800 cos30 = 692N 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2767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tis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-F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05640" y="36576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tis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tis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tis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tisan"/>
              </a:rPr>
              <a:t>f=uN = .05 x 692 = 34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400– 31 =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 =800N = mg ,  then m = 8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400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et = 369N = 80a,     so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 = 4.58 m/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91520" y="4114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4:26:08Z</dcterms:created>
  <dc:creator>TZ</dc:creator>
  <dc:description/>
  <dc:language>en-US</dc:language>
  <cp:lastModifiedBy>SOCSD</cp:lastModifiedBy>
  <dcterms:modified xsi:type="dcterms:W3CDTF">2009-10-22T19:27:35Z</dcterms:modified>
  <cp:revision>10</cp:revision>
  <dc:subject/>
  <dc:title>PowerPoint Presentation</dc:title>
</cp:coreProperties>
</file>